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55E-3825-4CA2-A2C1-56DA2CDD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77CF-8664-47B1-B7EF-4D48BAC8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C02-0860-4C69-A225-414045FF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19A-E787-4465-82A3-E03195D4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1C95-5C51-41C4-9900-8D9AF69F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B042-2072-4D16-91FD-43D60F3F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D2B-E1EE-4B07-8763-C8A7EE8F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5E1A-687A-4ED0-81D3-CC970B6C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C8F-0AF6-4593-91BC-33AE47F4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4B6-C6A5-4A03-9FEB-530667DF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F89-4AB7-4EA3-82F9-FEAB2DDF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2E24-DCF8-4798-A8CC-12E62CD4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242A-1CA1-44A0-BA62-C12B469C4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4854600"/>
            <a:ext cx="7315200" cy="114300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3405240"/>
            <a:ext cx="7315200" cy="139680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609480"/>
            <a:ext cx="7315200" cy="274320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7596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MOD  @  Plant and Animal Genome XV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7948080" y="17604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8316000" y="38746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54200" y="595440"/>
            <a:ext cx="695808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 Genomics with Galaxy: Analyze, Publish &amp; 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turday 1:30-2:30pm, California Room, Anton Nekrutenk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R: An easy to use genome annotation pip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turday, 3:50-6:00pm, California Room, Carson Hol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Resources at the EBI: Ensembl (including BioM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nday, 8:15-9:15am, California Room, Bert Overdu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eneric Genome Browser: A Hands on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nday, 1:30-3:40pm, California Room, Scott C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Gramene (including CMa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esday, 3:50-6:00pm, California Room, Ken Youens-Cla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ive Genomics with GBrowse_s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, 10:20am-12:30pm, Pacific Salon 3, Sheldon McK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57960" y="3406680"/>
            <a:ext cx="68025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Projec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day, 12:50-1:10pm, California Room, Dave Clements, Scott C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JBrowse Genome Browser with Large Amount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day, 1:10-1:30pm, California Room, Mitch Skinn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al: A Construction Toolkit for Online Genomics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, 2:30-2:50pm, California Room, Stephen Fickl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8174160" y="5235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25840" y="4835520"/>
            <a:ext cx="420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nday 10-11:30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858: GBrowse and Next Generation Sequencing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67000" y="5302080"/>
            <a:ext cx="355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nday 3-4:30p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859: Visualizing and Comparing Genom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861: Comparative Genomics Tools in GMO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6437160"/>
            <a:ext cx="1295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PhenixAmerican"/>
              </a:rPr>
              <a:t>Got gen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6520" y="601560"/>
            <a:ext cx="1377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-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ze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ne Ge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undred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6491160"/>
            <a:ext cx="3429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mod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6049800"/>
            <a:ext cx="7315200" cy="304920"/>
          </a:xfrm>
          <a:prstGeom prst="rect">
            <a:avLst/>
          </a:prstGeom>
          <a:solidFill>
            <a:srgbClr val="e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1560" y="6064200"/>
            <a:ext cx="452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at least 15 other talks and 19 more posters by GMOD us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35240" y="60030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5977080"/>
            <a:ext cx="99072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30:39Z</dcterms:created>
  <dc:creator>GMOD / NESCent</dc:creator>
  <dc:description/>
  <dc:language>en-US</dc:language>
  <cp:lastModifiedBy>GMOD / NESCent</cp:lastModifiedBy>
  <cp:lastPrinted>2010-01-05T19:43:23Z</cp:lastPrinted>
  <dcterms:modified xsi:type="dcterms:W3CDTF">2010-01-05T19:48:47Z</dcterms:modified>
  <cp:revision>28</cp:revision>
  <dc:subject/>
  <dc:title>PowerPoint Presentation</dc:title>
</cp:coreProperties>
</file>